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DB262-44C7-4021-9952-04841766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0D4E-8D7E-410F-90E5-A9CDF85E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E4A2-A32B-4A99-B782-47D56E69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8532-21FF-4C12-B1E5-43528789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C3BE-EA7C-4293-8466-AA4705BB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9577-CF1A-4B50-ABDE-BB544138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64D0-293D-4871-9357-7518F0D8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05D0-70F6-4219-9C8D-9029BDAD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1C73-E7C9-482A-AF74-D4A7C446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A70F-CB8F-46C4-A78C-21C4029D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939A-6315-4781-8C94-E6BBCE3C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D7F2-E6F0-47DA-95F5-C6889C8B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14CA-C9E2-4D20-B045-08319950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B58A-F748-4165-8A8C-B9175C8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AC59-7DB0-47CC-AC9B-C0931BDE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00FA-BEEA-44D7-BC1E-75A2D023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4367-8741-400C-B78E-CA8025EA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3EC8-11C7-40E9-AEE6-BD6E99F1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E18FD-0241-4126-9955-452F234C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B03E-4F8B-4D4C-9C2C-12C5514F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DD4B-F938-48DA-A989-F38B231F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A2E9-CF91-44B9-B396-EB46B0B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7B280-6DDA-4716-9840-28BFBE5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C972-6A8B-4E5B-82BF-075160D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0AC-043E-4E05-866E-549BFCC906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5B4A-B8CD-4065-B7A2-0588D0F21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ype of monoalphabetic cipher is called a multiliteral ci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other weak monoalphabetic cipher that is worth examining because it tries to do something unique - it replaces each plaintext letter with a pair of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iphertext is twice as large as the plaintext and looks very st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C4FD-ADA8-4DA5-87D4-6DA9CF0C6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literial Cipher key is a 5 x 5 matri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ve columns and the five rows are each labeled by the same 5 letter keywor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yword cannot have any repeating le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phabet is written in the matri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x has only 25 slots but the alphabet has 26 letters, so the letters “i” and “j” occupy the sam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keyword is “codes” then the key matrix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000" y="473400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 g h i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m n 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 r s t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 w x 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6800" y="4419720"/>
            <a:ext cx="2139480" cy="2275920"/>
            <a:chOff x="2566800" y="4419720"/>
            <a:chExt cx="2139480" cy="2275920"/>
          </a:xfrm>
        </p:grpSpPr>
        <p:sp>
          <p:nvSpPr>
            <p:cNvPr id="119" name=""/>
            <p:cNvSpPr/>
            <p:nvPr/>
          </p:nvSpPr>
          <p:spPr>
            <a:xfrm>
              <a:off x="2879640" y="4419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 o d e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616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4840" y="4809960"/>
              <a:ext cx="0" cy="18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6160" y="509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6160" y="54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6800" y="5829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76160" y="620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4840" y="4800240"/>
              <a:ext cx="172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889600" y="485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 e  l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19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 cs dc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36880" y="483084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48308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53355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B685-5B68-403D-B159-421DE4839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7T02:47:38Z</dcterms:modified>
  <cp:revision>48</cp:revision>
  <dc:subject/>
  <dc:title>CAP Cryptographic Analysis Program</dc:title>
</cp:coreProperties>
</file>